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B5C2-418E-409C-A1BD-AE3D1ED5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A7C8-0F0F-4282-B9FF-A14637D9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B37D-A060-4EAF-BBF8-37C0E5444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476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109400"/>
            <a:ext cx="264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789-53CD-46CA-9FB7-D772ECAD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600-A2CD-4EAE-8D39-3966D957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7CC-E861-4575-B2FF-65F18440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C00B-643B-45DD-8D26-158206A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C7C5-2F82-4E25-B8DA-57CD17D4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B06-8A77-4707-BFB2-39C98F69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9DA-985A-46F3-982E-1FD50AE1B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10940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CF3-29F9-4DC4-A1E1-4BE4DEA1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4760"/>
            <a:ext cx="40158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094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C93A-46A8-45A2-9F6B-D590C6B0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4d13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DAF5-F2E5-4F2B-A7AE-4442528E0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0" descr="Can_PP_Dark"/>
          <p:cNvPicPr/>
          <p:nvPr/>
        </p:nvPicPr>
        <p:blipFill>
          <a:blip r:embed="rId2"/>
          <a:stretch/>
        </p:blipFill>
        <p:spPr>
          <a:xfrm>
            <a:off x="7172280" y="4343400"/>
            <a:ext cx="1971720" cy="25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" name="Line 13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>
            <a:off x="0" y="1523880"/>
            <a:ext cx="9144000" cy="0"/>
          </a:xfrm>
          <a:prstGeom prst="line">
            <a:avLst/>
          </a:prstGeom>
          <a:ln w="76320">
            <a:solidFill>
              <a:srgbClr val="b1ba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Disease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Can_PP_Dark"/>
          <p:cNvPicPr/>
          <p:nvPr/>
        </p:nvPicPr>
        <p:blipFill>
          <a:blip r:embed="rId1"/>
          <a:stretch/>
        </p:blipFill>
        <p:spPr>
          <a:xfrm>
            <a:off x="3763800" y="0"/>
            <a:ext cx="5380200" cy="6858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Rectangle 14"/>
          <p:cNvSpPr/>
          <p:nvPr/>
        </p:nvSpPr>
        <p:spPr>
          <a:xfrm>
            <a:off x="0" y="0"/>
            <a:ext cx="3809880" cy="6858000"/>
          </a:xfrm>
          <a:prstGeom prst="rect">
            <a:avLst/>
          </a:prstGeom>
          <a:solidFill>
            <a:srgbClr val="b1ba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duced calcium consumption during critical bone-building years is putting kids at risk 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steoporosi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 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where decreased bone strength increas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addition to cavities, heavy pop consumption has been linke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dney s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ost alarming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e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esity is becoming a youth epidemi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ity rates have risen in tandem with soda consumption. Childhood obesity in the U.S. has doubled in the last 10 yea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esity is linked to a variety of                 chronic disease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 II Diabe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rt Dise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4d1312"/>
                </a:solidFill>
                <a:latin typeface="Times New Roman"/>
              </a:rPr>
              <a:t>What tooth decay in youth can look like.</a:t>
            </a:r>
            <a:endParaRPr b="1" i="1" lang="en-US" sz="3800" spc="-1" strike="noStrike">
              <a:solidFill>
                <a:srgbClr val="cfd5d7"/>
              </a:solidFill>
              <a:latin typeface="Times New Roman"/>
            </a:endParaRPr>
          </a:p>
        </p:txBody>
      </p:sp>
      <p:pic>
        <p:nvPicPr>
          <p:cNvPr id="74" name="Picture 23" descr="Mouth 1"/>
          <p:cNvPicPr/>
          <p:nvPr/>
        </p:nvPicPr>
        <p:blipFill>
          <a:blip r:embed="rId1"/>
          <a:stretch/>
        </p:blipFill>
        <p:spPr>
          <a:xfrm>
            <a:off x="380880" y="1905120"/>
            <a:ext cx="2403720" cy="203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5" descr="Mouth 2"/>
          <p:cNvPicPr/>
          <p:nvPr/>
        </p:nvPicPr>
        <p:blipFill>
          <a:blip r:embed="rId2"/>
          <a:stretch/>
        </p:blipFill>
        <p:spPr>
          <a:xfrm>
            <a:off x="6324480" y="1905120"/>
            <a:ext cx="2403720" cy="2033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7" descr="Mouth 3"/>
          <p:cNvPicPr/>
          <p:nvPr/>
        </p:nvPicPr>
        <p:blipFill>
          <a:blip r:embed="rId3"/>
          <a:stretch/>
        </p:blipFill>
        <p:spPr>
          <a:xfrm>
            <a:off x="380880" y="4114800"/>
            <a:ext cx="2405160" cy="203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9" descr="Mouth 4"/>
          <p:cNvPicPr/>
          <p:nvPr/>
        </p:nvPicPr>
        <p:blipFill>
          <a:blip r:embed="rId4"/>
          <a:stretch/>
        </p:blipFill>
        <p:spPr>
          <a:xfrm>
            <a:off x="6324480" y="4114800"/>
            <a:ext cx="2405160" cy="2035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1" descr="Mouth 5"/>
          <p:cNvPicPr/>
          <p:nvPr/>
        </p:nvPicPr>
        <p:blipFill>
          <a:blip r:embed="rId5"/>
          <a:srcRect l="0" t="0" r="0" b="9209"/>
          <a:stretch/>
        </p:blipFill>
        <p:spPr>
          <a:xfrm>
            <a:off x="3048120" y="4114800"/>
            <a:ext cx="2981160" cy="228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2" descr="Mouth 6"/>
          <p:cNvPicPr/>
          <p:nvPr/>
        </p:nvPicPr>
        <p:blipFill>
          <a:blip r:embed="rId6"/>
          <a:srcRect l="0" t="6034" r="0" b="0"/>
          <a:stretch/>
        </p:blipFill>
        <p:spPr>
          <a:xfrm>
            <a:off x="3048120" y="1600200"/>
            <a:ext cx="29811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How Tooth Decay Starts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in pop combines with bacteria in the mouth to form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cid, in addition to the acid already present in the soft drink, attacks tee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cid attack lasts about 20 minutes; Acid attacks start over again with every s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going acid attacks weaken tooth          enam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ities begin when tooth enamel is     dam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How Tooth Decay Starts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ember! Diet or “sugar-free” pop still has acid that can harm your teet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hough sweetened fruit and sport drinks aren’t carbonated like pop, they too have acid and sugar that              can cause decay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consumption of soft drinks, including carbonated beverages, fruit juice and sports drinks has increased by 500% in the past 50 years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s drank more than 53 gallons of soft drinks, per person, in 2000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mount surpassed all other beverag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of every 4 beverages consumed today is a soft dri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of this consumption, other          more nutritious beverages are being displaced from the di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, 1/5 of all 1- to 2-year-old children drink soda pop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ay, teens drink twice as much soda as milk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 years ago, teens drank                twice as much milk as soda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Soda Sizes"/>
          <p:cNvPicPr/>
          <p:nvPr/>
        </p:nvPicPr>
        <p:blipFill>
          <a:blip r:embed="rId1"/>
          <a:stretch/>
        </p:blipFill>
        <p:spPr>
          <a:xfrm>
            <a:off x="1523880" y="1447920"/>
            <a:ext cx="6019920" cy="46368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4d1312"/>
                </a:solidFill>
                <a:latin typeface="Times New Roman"/>
              </a:rPr>
              <a:t>How sizes have chan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676520" y="6095880"/>
            <a:ext cx="114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al 1920s size: 6.5 ou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895480" y="6095880"/>
            <a:ext cx="114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 ounce cans introduced in  the 196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4419720" y="6095880"/>
            <a:ext cx="114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 ounce contour bottles introduced in  the early 199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"/>
          <p:cNvSpPr/>
          <p:nvPr/>
        </p:nvSpPr>
        <p:spPr>
          <a:xfrm>
            <a:off x="5943600" y="609588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liter contour bottles introduced in late 1990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regular pop, all the calories come from sugar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da pop is America’s single biggest source of refined su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- to 19-year-old boys get </a:t>
            </a:r>
            <a:r>
              <a:rPr b="1" lang="en-US" sz="2800" spc="-1" strike="noStrike">
                <a:solidFill>
                  <a:srgbClr val="4d1312"/>
                </a:solidFill>
                <a:latin typeface="Arial"/>
              </a:rPr>
              <a:t>44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           their 34 teaspoons of sugar a day              from soft dr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ame age of girls gets </a:t>
            </a:r>
            <a:r>
              <a:rPr b="1" lang="en-US" sz="2800" spc="-1" strike="noStrike">
                <a:solidFill>
                  <a:srgbClr val="4d1312"/>
                </a:solidFill>
                <a:latin typeface="Arial"/>
              </a:rPr>
              <a:t>4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            their 24 teaspoons of sugar from                 soft drin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- to 19-year-old boys who drink pop consume an average of 81 gallons per year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rls the same age drink an average of 61 gall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a healthy 120 lb. person who eats a healthy diet and exercises regularly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nking one 20 oz. soda everyday can contribute enough extra calories to equal        27 lbs.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ould take 2 hours of moderate           walking to burn off the calories from              one 20 oz. s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fd5d7"/>
                </a:solidFill>
                <a:latin typeface="Times New Roman"/>
              </a:rPr>
              <a:t>Some Facts to Consider…</a:t>
            </a:r>
            <a:endParaRPr b="1" i="1" lang="en-US" sz="4400" spc="-1" strike="noStrike">
              <a:solidFill>
                <a:srgbClr val="cfd5d7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20-oz. bottle of Mountain Dew contains 19 teaspoons of sugar. A person who drinks a bottle per day consumes just under 1.4 pounds of sugar per week from Mountain Dew alone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20-oz. bottle of Mountain Dew  contains 92 mg of caffeine,              nearly equivalent to an adult              dose of NoDoz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6T17:09:04Z</dcterms:created>
  <dc:creator>Melissa Albertson</dc:creator>
  <dc:description/>
  <dc:language>en-US</dc:language>
  <cp:lastModifiedBy>Daly Dominguez</cp:lastModifiedBy>
  <cp:lastPrinted>2015-10-05T19:46:21Z</cp:lastPrinted>
  <dcterms:modified xsi:type="dcterms:W3CDTF">2015-10-05T19:48:31Z</dcterms:modified>
  <cp:revision>53</cp:revision>
  <dc:subject/>
  <dc:title>Slide 1</dc:title>
</cp:coreProperties>
</file>